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37C2-FAFE-40BE-ADC7-298F7CD5E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80CE-B0AD-42BD-AFCC-67000F580B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6736-0006-4604-84DF-5F3B7E498F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4609-CC28-4711-B6E0-389D7F68BF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E557-FAF7-43F7-9B35-710C261A04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0601-ABD5-47A7-99A7-2B04A0E186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348-5046-4754-9289-782A102A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AD2-F676-4F5A-AEA0-C255FAFB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6F1-E031-49BD-8B6C-20049B22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E1B-3241-44AC-A690-D84F68D8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4DB3-38D6-4CC4-9E8B-C3AADA2F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0BE5-C771-4891-9FB0-DE2DAECF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D7D3-D313-430B-909B-E362969D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4C32-557B-487D-BCC3-6FC091D3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ECB3-6662-4FE5-A024-064CE2DE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5275-9B1D-4C86-8F25-8AF0CCFC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4B02-8932-43D8-A044-B4356ED9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FB7-6839-467F-B65A-6AA905D9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4ABE-77C0-4B93-BE7E-48F40AB0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DF09-846D-4CC7-B4B1-10C9DA3D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CB31-C0B6-4AE6-95BB-C6F8DE92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6E5E-6235-4CF6-89F7-3F3D4154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09D6-AC1F-4B01-A0C8-D14C3D34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F846-6F3E-4B01-B79B-C48B99D1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28305-465E-4AE2-B042-243AA837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BFA3-C7A5-41B0-BCBE-C3C17541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DB70-F603-45F5-9051-35999119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92EF-90B6-4DAC-9731-A28DED4B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EB0-0F19-479E-AAFA-23D6FC46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DBC3A-E2F7-4A3A-9709-6C792A1C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CAEF-0EE1-4625-8973-C290D42C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B2A2A-014A-4AB1-AC4F-82ED8157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DBE9E-0E6F-4B55-9732-0410C729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4E36-CD52-4B98-A062-48E0BF33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85837-AB83-446F-A4BC-890C701D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BD94-D7C4-4583-A36F-AFB82068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227C-E751-41C0-A090-ECFB0382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9E3F-4D33-4400-92C0-C3924E02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A23D3-5F05-4E59-9F1B-9C764413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FE7-AD4D-4AE5-820A-78E8BAFC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AB69B-EBAF-4DF5-9962-3A636F35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22789-7851-4C65-ACD3-28912582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B252-A391-4620-8050-18E9ADC8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A3ED-9833-45F4-B884-A47E0097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8CBAC-C785-4F77-9E2C-D826F82E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36EDD-DF7F-4AB3-B6DA-054127A6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BBBB5-BA4A-4481-A4F6-E349D28D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3D7E3-F270-45DB-A9CC-E79305F2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2D6CB-5DAB-4684-A7E7-BCAB7CC0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CED65-DE3A-4B4D-8BCA-81B83ECD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675-A068-4291-AAD9-E40D803B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4FC89-B20E-464F-91F7-CD8B07C8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0C1C6-9B4B-42B5-B14E-0AD5C027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E3A78-0559-4934-9322-E5EDDA63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B4C3B-6157-4173-B274-B05A9EB7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3F9B4-54C3-4D15-B1D5-A5C17C44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5E131-093E-4C51-A11C-BFC69C3A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6C10-11C7-4ABD-AF72-CEE2CBA9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FC19D-2D47-4199-9E8B-0713486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456F5-D2B6-421C-B12E-3EFF7A03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E4843-6148-401B-97DA-3CCA14FD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BF7-79F8-47C4-8991-9993C49E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E8A93-9CA1-4D98-A22C-6AC4AEE5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03A10-CF85-4EC0-AD77-A0C90307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312C2-0AEA-420D-A395-7C047D6D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AE4F9-94CE-4A8F-96C4-B6F77097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FB638-F3E2-4DB5-B4FA-F4DF397F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016ED-889A-4774-A512-D27F7361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520F4-2C8B-46D8-AE85-CF93E409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5C677-80A5-41AD-A3C7-CF036622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DAAE8-CC82-4CF9-9A04-43CE9C3A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23967-BFD3-4E4E-9779-90E5BD5C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AEF-2399-42B7-A646-F26642F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34E02-73D4-482C-80A0-6B38DD0C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78376-1EB9-4A75-833C-831B795B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3E66D-4DDC-4310-96F8-00E973AB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784-5780-4C8D-9F88-6B99395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E625-FCB7-49B5-B43D-A5527F2D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9908-79D5-477B-AA81-B7EBA4950CC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FCC2-8B42-42CB-BE20-FE56F409064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1476-C22B-408E-A9BC-C2E16EAFF3F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71F2-4AB3-4900-80A2-31674EC7788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1942-2AED-4AB7-A647-9DE358F4E38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8DFB-76AF-4345-B8BC-572277AA71C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-ins and Freedom R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Franklin Gothic Book"/>
              </a:rPr>
              <a:t>HISTORY OF SIT-I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4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on the lunch counter and answer questions on your worksh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3143520" cy="2990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Franklin Gothic Book"/>
              </a:rPr>
              <a:t>FREEDOM RID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on the bus and answer questions on your worksh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645080" y="1447920"/>
            <a:ext cx="4041720" cy="4876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3314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TOUR OF THE SIT-INS AND FREEDOM RID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657600" cy="3497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2860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on the map to answer questions about the freedom rides and sit-i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6:42:41Z</dcterms:created>
  <dc:creator>Paul Henderson</dc:creator>
  <dc:description/>
  <dc:language>en-US</dc:language>
  <cp:lastModifiedBy>Paul Henderson</cp:lastModifiedBy>
  <dcterms:modified xsi:type="dcterms:W3CDTF">2007-10-11T19:25:59Z</dcterms:modified>
  <cp:revision>17</cp:revision>
  <dc:subject/>
  <dc:title>Civil Rights</dc:title>
</cp:coreProperties>
</file>