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448E-061A-40C4-93C4-5FA3A7F18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A979-3AB7-4942-A9F5-ED8F6FD91F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9730-9E01-4836-9213-123185F9BD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F365-A1F2-4AC7-9863-B9D93BFC77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43B3-E587-4991-935E-55E383DD11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93B9-5E52-4FCB-8B77-29285A34BA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D0F-918D-40F0-8421-3CF14BB2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771-98DD-4BEC-978F-F04AEAEF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5F5-F202-4421-B752-9D419563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42A-836B-46D4-A2BA-E09287FF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9ABF-D7DE-469A-85DE-F70882FE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B18E-D129-41DB-B05A-5126549F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6C26-0DF0-4ACD-9E48-970C1BF7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F532-612A-4722-8053-F98108C8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6A9F-FFA0-4851-9F21-08CC66F0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8A7C-5FC9-479A-8977-EA350C8D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9E77-4D98-4D1A-88AD-33D7B436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F00-EDC1-47E8-8878-ADD1AA76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8ECF-B660-46EB-8358-28497EF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0DA6-90A9-46A0-8C28-6A607D91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400C-BD4E-46EF-B916-D820AE60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BDAF-0299-4E50-A49E-602C0791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996F-C01F-41D1-B314-2927BE59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390B-85C0-46F1-BE7D-5ADB9E84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3A30-81FB-47DB-91A0-5A0892FE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B587-7884-4C44-A89C-D1F1380E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3ECC2-17C1-45C6-AB67-0A6180AF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33DE-DFEC-4145-A74C-3D4E1FC7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553-A6B3-4246-A963-CA7C553D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C56A-A8C8-4F51-8BCA-9D0188B2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2F9D-F9E7-471B-BD7F-3B11D61A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91E1-FDDE-4AE6-8A78-2EF9C13F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4E49-E501-45F7-BEA7-044079C0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DC5E-44AD-4CDA-8A3B-0167AFA9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B164-5D93-4D29-BE27-AA611884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71C8-971F-42B5-8BA2-CD94306D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697A-242D-4E65-9A51-C662223A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0EB10-9EA3-4087-A5FA-A4DE36D7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21B48-89AE-4186-B9F9-78D2F72C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AC8-98AB-468E-A4B6-2E5105CE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35F89-0A61-47C5-B0B1-BE1956EA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E651A-0774-429B-9F16-762DCB43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46B1A-C6A3-44E3-8D2C-D7B7F395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16B8-2B12-4E8D-8814-4A39D353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B814-9358-4D8A-ADA7-A357619A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6638D-63AD-4278-AFDB-B501F09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A07C2-3624-4655-BFEE-8ED56A9B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39E1-515A-4D4F-A2A7-851CB9AB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A6F7-1BAC-4315-85F2-A9BECC0A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AA871-3747-494C-8AFE-2D91E985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98F-E90D-492D-BE4A-216F079B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8C3D0-6617-4A3C-9133-7C550C2D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2029A-A2DB-49AE-9502-18B94B57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C4A7-AE60-4C0F-9407-4BE45A9D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6944C-FEEB-4D34-A66C-94BB4E4C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63777-725B-4598-88DC-2BF0797C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6476C-853A-4F26-BB40-D50D6187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F785-41F1-483C-89A5-9B64C1C3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48BCC-C4CC-480C-A7AD-354AC103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93508-825A-4E9B-9A7A-7B8646DA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A02E4-3330-4A87-A702-83B0BE4D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3CD-A95B-4357-AD88-720F98D8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B763E-C3E3-4AEC-B103-5955D187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FDAA1-5DA8-428C-B8CC-982FEAEE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7F586-B7C5-4D52-96A0-CCB774BB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23D2F-4BC2-44A3-B09C-68183F1F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4A55C-41CE-401D-A699-EE185106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98F30-6FF2-438B-B0AC-3C1E8D50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50D58-172F-49B3-BEA3-BB5EA50B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8BE53-AFDB-4B03-8E16-20645434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1A49-DEC6-4C14-9CC3-B4A7BC20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B3C04-3268-401A-A92E-C905102C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E6E-E957-4799-8738-4CB7F48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6D70F-5E86-4A5B-B60A-04D2E6C0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2DCAD-6C31-4A31-B051-20C146C8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2FC6-9204-4455-B880-D7F94134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297-56AE-44B1-95FF-42B92B63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CFA-2BC7-4FEC-9D4C-3BE250FC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94C6-068C-4D03-982D-DA43CF4DEA6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1995-D264-4B5A-9000-2E8EC65B4D0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7A24-9D7A-4104-8BAB-279F3940032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356C-D3E4-4CFA-96EC-1592915E8AB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298C-2891-4E19-BC77-3B79B9E8B71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1531-E8CE-4F3F-8F2B-5E298331B82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-ins and Freedom R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HISTORY OF SIT-I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lunch counter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3143520" cy="2990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FREEDOM RID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bus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041720" cy="4876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3314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TOUR OF THE SIT-INS AND FREEDOM RID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657600" cy="3497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286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on the map to answer questions about the freedom rides and sit-i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6:42:41Z</dcterms:created>
  <dc:creator>Paul Henderson</dc:creator>
  <dc:description/>
  <dc:language>en-US</dc:language>
  <cp:lastModifiedBy>Paul Henderson</cp:lastModifiedBy>
  <dcterms:modified xsi:type="dcterms:W3CDTF">2007-10-11T19:25:59Z</dcterms:modified>
  <cp:revision>17</cp:revision>
  <dc:subject/>
  <dc:title>Civil Rights</dc:title>
</cp:coreProperties>
</file>