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move the slid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5206A-A8A5-4F83-9200-319C0E5B95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07E6C-EB21-4877-A3F1-617C2F6F2DF3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71D3B-6753-4AF4-AC24-9FEA0F1F9B51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701E2-061D-4914-836A-F77FAD4EF602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0E114-CFC2-4D84-ABF1-5DE87AA043A8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67139-E83B-4725-A70F-F85B07C74473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88DD4-9D4D-43D4-9261-7157FE0F3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32C8A-537D-495B-B933-05C38047F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C2F7D-5133-461A-932A-E6D8DCA33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3FD1F-62A4-46A5-A954-B711E52C5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4F7B0-C443-4704-A351-333ECD374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ADFBE-F42D-43AA-B06A-03E505DA5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8C23B-B798-4384-B0DD-AA15B8C08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C4276-718E-415B-826C-CD498335B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A7C0C-CEE5-4494-8388-52CBE5E86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E680B-88A8-4406-A15C-21223A2D4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A78A3-881F-44D5-B08C-6D8C0F20B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21549-75C1-4CD9-AC04-BDB21ECB7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18B80-07D1-4FD6-A64E-7826918FD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2BFE2-5938-48B3-BA5F-45C30277A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E1531-F9B4-4A96-86D3-2DC0B5F4E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E3348-AA9C-4066-8397-8A788565F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5D4A9-E45D-4845-BCCE-17B9DD91F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427B02-C64C-4A91-8C8A-7E674D08E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75AAE8-B77B-43E5-82EC-8B0C477AD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279021-FAEA-4029-966A-25E1F39FC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CCE9F5-9353-4C92-9554-8B3CE20F8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A91679-2F48-41DD-B5AC-D9F5E6F98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C687C-E2AE-4945-94EC-C7A83DC06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0F2FF6-973E-4094-9E5B-F4674C410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5C8BAD-E338-42C8-8638-6FDE765B6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979646-E983-4453-A000-9939C1D95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3A5B04-1608-4A64-86C9-DC168A0AA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19A39B-B772-4181-B6BB-BC9566F32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1ABB7C-0237-4EF0-BFEC-D0F7005DF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EBCDED-9708-403D-BD70-12C3CCEA5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2F275A-BFED-4BD8-B3C8-0CC325D27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B28EFE-67EC-4ADF-B8E3-83C607E02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505DBC-30F3-4B78-94B6-A91CFD9C7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2FA46-17B4-4365-AB34-955E98E62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7BE18A-2863-48DB-ACAF-1BDCA3BAD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CF9BE6-B04D-4535-BF40-898A57374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7AD72F-CB3C-4C6C-BB8B-0A84B017A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9F599F-7BA4-4846-88C9-DCBB8E581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F2852B-6B13-4CFA-982C-3BB0C8705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7F9D2A-45FC-412F-B817-C790EDFF6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CC23EA-228B-4269-B427-1DF69A089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529452-FD3E-4990-8654-31F36B212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F23416-8CF5-4DD1-915F-42CAF519D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1336CE-ABB8-4ADD-AC35-D136848CA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ABA94-7448-4D42-B6C8-8EF4E5F78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0FACE8-7AA7-4C5D-A5E9-52D851EFE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E258A1-16A8-4054-AE79-9C4B31CD1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ADA140-3588-4A88-9DB2-269623144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FA0646-1955-4FEB-B033-53BB88C4D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3FAC29-45AE-4108-93D1-CDE159472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8E835E-D6DE-4CC8-BADC-4AF972132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0879A2-CCBC-4044-80E4-7F50AB83D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5F3EB6-47D2-4FDB-BA35-09845DE4D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2DE203-D6DB-4214-8518-D9061C683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F95540-5234-4ABE-9000-21D3903CC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BA393-44BA-496C-ADA0-5F5A57061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6E1456-03E6-4920-8A8B-DD4ACDB03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36F22B-77E7-41A3-AF90-5AE1E3E6A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2757AB-BF35-4943-AFCC-52AAB18F5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4EA139-D8FB-41F4-B4FA-9FB1BB1F6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A7D961-8EF9-445D-A0AD-695E0DD87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B6E661-DD76-4615-9A1F-D7081B661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6E8AAE-95C4-411A-B921-5C014F9E8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A6C09C-C352-4E26-9CB4-41F513E32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70B9E4-4F39-4490-8F4F-FC6B17565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FA7BBD-51C6-4E11-A250-DB525CF2C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745CB-DA6B-4B10-BF34-8DD96568C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8A85A9-BDA4-4A48-913C-8155BE570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1B24F7-6250-4088-B0A2-E9BD0E905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54E41F-98A3-4302-BA30-69EA432CB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B2567-E21B-421D-9D1C-963D2007D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A4106-9953-4630-9A93-3E1A28BFC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Freeform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E47F0-3790-4228-80B6-96EF8620EFD1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10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93658-538E-467B-8CA9-5FB4AB6A73AF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10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Freeform 12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E33D1-FE16-46BA-BB1E-91287995841E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46B48-7591-4BE1-ACA0-2CB2D3BC0420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reeform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Freeform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FC8D3-73B8-4AD1-AFD6-CB15A30901B9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21AAF-1DAF-4C31-9826-EDFF2CE1F4AF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Title 1" descr=""/>
          <p:cNvPicPr/>
          <p:nvPr/>
        </p:nvPicPr>
        <p:blipFill>
          <a:blip r:embed="rId1"/>
          <a:stretch/>
        </p:blipFill>
        <p:spPr>
          <a:xfrm>
            <a:off x="420840" y="3200400"/>
            <a:ext cx="6838920" cy="2444760"/>
          </a:xfrm>
          <a:prstGeom prst="rect">
            <a:avLst/>
          </a:prstGeom>
          <a:ln w="0">
            <a:noFill/>
          </a:ln>
        </p:spPr>
      </p:pic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433440" y="1544760"/>
            <a:ext cx="6480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0" bIns="0" anchor="b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t-ins and Freedom Rid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0000"/>
                </a:solidFill>
                <a:latin typeface="Franklin Gothic Book"/>
              </a:rPr>
              <a:t>HISTORY OF SIT-IN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40402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ick on the lunch counter and answer questions on your workshee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44720" y="5486400"/>
            <a:ext cx="4041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ea0b0"/>
              </a:solidFill>
              <a:latin typeface="Arial"/>
            </a:endParaRPr>
          </a:p>
        </p:txBody>
      </p:sp>
      <p:pic>
        <p:nvPicPr>
          <p:cNvPr id="266" name="Picture 4" descr=""/>
          <p:cNvPicPr/>
          <p:nvPr/>
        </p:nvPicPr>
        <p:blipFill>
          <a:blip r:embed="rId1"/>
          <a:stretch/>
        </p:blipFill>
        <p:spPr>
          <a:xfrm>
            <a:off x="838080" y="3505320"/>
            <a:ext cx="3143520" cy="299088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2" descr=""/>
          <p:cNvPicPr/>
          <p:nvPr/>
        </p:nvPicPr>
        <p:blipFill>
          <a:blip r:embed="rId2"/>
          <a:stretch/>
        </p:blipFill>
        <p:spPr>
          <a:xfrm>
            <a:off x="4645080" y="1523880"/>
            <a:ext cx="404172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0000"/>
                </a:solidFill>
                <a:latin typeface="Franklin Gothic Book"/>
              </a:rPr>
              <a:t>FREEDOM RIDE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4040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ick on the bus and answer questions on your workshee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44720" y="5486400"/>
            <a:ext cx="4041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ea0b0"/>
              </a:solidFill>
              <a:latin typeface="Arial"/>
            </a:endParaRPr>
          </a:p>
        </p:txBody>
      </p:sp>
      <p:pic>
        <p:nvPicPr>
          <p:cNvPr id="271" name="Picture 2" descr=""/>
          <p:cNvPicPr/>
          <p:nvPr/>
        </p:nvPicPr>
        <p:blipFill>
          <a:blip r:embed="rId1"/>
          <a:stretch/>
        </p:blipFill>
        <p:spPr>
          <a:xfrm>
            <a:off x="4645080" y="1447920"/>
            <a:ext cx="4041720" cy="487656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3" descr=""/>
          <p:cNvPicPr/>
          <p:nvPr/>
        </p:nvPicPr>
        <p:blipFill>
          <a:blip r:embed="rId2"/>
          <a:stretch/>
        </p:blipFill>
        <p:spPr>
          <a:xfrm>
            <a:off x="609480" y="3352680"/>
            <a:ext cx="3314880" cy="30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0000"/>
                </a:solidFill>
                <a:latin typeface="Franklin Gothic Book"/>
              </a:rPr>
              <a:t>TOUR OF THE SIT-INS AND FREEDOM RIDES</a:t>
            </a: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74" name="Picture 2" descr=""/>
          <p:cNvPicPr/>
          <p:nvPr/>
        </p:nvPicPr>
        <p:blipFill>
          <a:blip r:embed="rId1"/>
          <a:stretch/>
        </p:blipFill>
        <p:spPr>
          <a:xfrm>
            <a:off x="4267080" y="2057400"/>
            <a:ext cx="3657600" cy="349740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 txBox="1"/>
          <p:nvPr/>
        </p:nvSpPr>
        <p:spPr>
          <a:xfrm>
            <a:off x="228600" y="15238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9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Click on the map to answer questions about the freedom rides and sit-in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1T16:42:41Z</dcterms:created>
  <dc:creator>Paul Henderson</dc:creator>
  <dc:description/>
  <dc:language>en-US</dc:language>
  <cp:lastModifiedBy>Paul Henderson</cp:lastModifiedBy>
  <dcterms:modified xsi:type="dcterms:W3CDTF">2007-10-11T19:25:59Z</dcterms:modified>
  <cp:revision>17</cp:revision>
  <dc:subject/>
  <dc:title>Civil Rights</dc:title>
</cp:coreProperties>
</file>