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331C-317F-4EFD-AAFC-D73ED39C3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04B2-717E-47D4-ADA7-888D0C0B9B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6328-8FC2-4C1B-8488-0F3B37535B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B482-96C8-43F5-A60E-D357A89ED7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AA93-4D34-4FDA-A894-F6128205B1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E987-85DB-4C3A-B736-C3F1C521E2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999-CA0F-436E-9CDD-F36600A6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AE1-3E35-4E99-A310-9FF0DC99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58D-C62F-4495-A98C-8EB9280E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680-0F26-4EE5-A496-F0FAD68E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F73C-2F85-4067-BE34-CB3B1AB1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32BC-AAC0-474C-9DF0-BA92FF8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62A4-E6A3-44B8-8E29-B07294B5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3389-02C3-411B-AC94-7F287001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1971-76C3-4773-831D-9B0A6E5F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8094-EA02-4DB5-BB23-D1153BA2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728B-E2AF-41E6-8C05-A61391E7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20C-BA9C-472F-B8E1-25C984B7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F836-1734-4B40-980E-BE34489A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C80B-C18E-4837-8487-4F48882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6695-998A-43F3-900B-C789F237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D1C0-13B9-4627-AF86-19A18B97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04EE-4915-4069-A0FF-58B68CBD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9CD96-614E-4205-9DC3-38A39E70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73FE-8F68-43F4-AFFF-5163B7F0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1B9E-087C-4208-987E-AAD5D332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FA04-5DA4-4C96-BECF-994EB3AE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4BB0-9DB5-49FF-9262-FB7F1D22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3AB-E14D-4D2E-96BD-D396A6D0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042C5-4FEF-4881-996C-7EDD69C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6CC0-8E61-403B-8658-C8BE8D9D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E3B4-EB13-4492-90FE-DCDC258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573E-B3EA-4B11-BE10-56143330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9F38-FD71-4E97-BB58-E326D475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5661-92AE-4460-889A-01C8138A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298C-B978-4FE2-9C62-6C973344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01772-CD04-4693-B4A5-384DF5D0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522F7-5812-4F19-89E5-043BD360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C12C1-F0CC-48B5-A3DE-4A36B991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0D1-EEC2-4347-BAB8-DDC33831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FC7C-F8F0-4CF6-86F6-31A536B4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8BC5-635E-49E8-914D-2394A035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D748-3BBF-48AC-886E-EACA45FD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4916-B990-4540-9F47-75D9E63D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6AD9-71B1-475D-9023-22F209D2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343C-8EB7-453F-8171-79544974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A2F3-F515-4443-8788-7D2CE7E2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96FE4-81A0-472C-86FA-5E146BB9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67D1-4C12-48FC-9DF4-8DF8BFA2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1ACF3-A47B-4709-A495-D33B334F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98B-B27C-402D-883F-8894B80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D09C9-C525-4305-8780-339C73AA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9E3F6-3C20-494C-A57F-6B1312A6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A67B5-C9AA-4A14-B2EF-4E859742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9699C-1FBF-4724-9750-069E6E45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39793-4D06-4197-97FC-7BB78D65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57D68-1968-46EC-BFE1-2C25A5F5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BE26-1D76-42F6-9601-3B7F711E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A39B3-DAF1-4372-99ED-F1F6E561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BE02F-CFB0-4348-A0DE-15FED7A5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C74EC-B0FE-43EB-A148-73FCF890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0AA-3E94-4BC5-B697-936A1C4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4DAAB-342B-4169-975E-3B2D0E47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71AFA-0829-45E7-8BF5-A05D6FFE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36909-17D0-4ACD-BAE6-5DC214F5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A346F-63C2-456A-A8EB-9A05275D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B7F84-2454-48D1-9ED0-4BF0932F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0B622-4B31-474C-AB5E-81545447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D993-4073-427A-83E2-8A030143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E7F6-442A-450B-B233-CB6D38FE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E63A5-B4A9-4C7A-87BE-984053B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4EAE3-70B6-43E1-81D0-80EED46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162-D34C-48E1-ABCC-04EC6B7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30095-2F06-415A-AD99-C44B51F9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C540-FF68-4825-B457-96264ADB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8A2B-BF3E-4F92-9669-B5AACE02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F3D-410C-4062-92C1-603E2B9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344-3C47-41E6-A8A0-77CDD76D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7191-90ED-4440-8CC2-582A933C471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0EA2-17F8-47CC-9C94-8FFFE968A7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440B-6F59-44F3-832F-742EEC14949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3437-1A4C-43ED-BDF0-906207EB25D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DC5E-00F4-4E29-9481-E55D645C7A3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3EED-70D4-4741-A0C3-604E665ACD0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-ins and Freedom R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HISTORY OF SIT-I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lunch counter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3143520" cy="2990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00"/>
                </a:solidFill>
                <a:latin typeface="Franklin Gothic Book"/>
              </a:rPr>
              <a:t>FREEDOM RID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on the bus and answer questions on your worksh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54864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ea0b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041720" cy="487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3314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Franklin Gothic Book"/>
              </a:rPr>
              <a:t>TOUR OF THE SIT-INS AND FREEDOM RIDE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657600" cy="3497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8600" y="15238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on the map to answer questions about the freedom rides and sit-i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6:42:41Z</dcterms:created>
  <dc:creator>Paul Henderson</dc:creator>
  <dc:description/>
  <dc:language>en-US</dc:language>
  <cp:lastModifiedBy>Paul Henderson</cp:lastModifiedBy>
  <dcterms:modified xsi:type="dcterms:W3CDTF">2007-10-11T19:25:59Z</dcterms:modified>
  <cp:revision>17</cp:revision>
  <dc:subject/>
  <dc:title>Civil Rights</dc:title>
</cp:coreProperties>
</file>