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F6CD-A24E-463D-9C66-1C9549345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7978-E2EA-4712-BECE-CBA193A4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082F-DB4D-42D0-8D67-2460D7368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166C-811F-400F-B16F-FBD3656F6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786B-34D3-4D15-A613-33A3A439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DF26-B245-4ACE-A62A-F72B3F39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180E-0886-49A1-B660-BF19EB61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2F14-EF98-493B-958A-40A40461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437C-43B5-45CD-AA1B-D3C1AB1F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1F31-1633-483B-B2C1-5E56BB00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2502-99BF-49C4-B889-B6E3347E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B54F-A168-4736-936D-9F504B70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5928-6274-4498-809D-19C7502E0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248520" cy="3676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80868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gal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2867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ist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4647960" cy="4190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5867280"/>
            <a:ext cx="800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A) a diatom an autrophic protist, (B) a herbivorous oligotrich ciliate, (C) a herbivorous tintinnid ciliate, (D) a dinoflagellate, and (E) a radiolaria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16:42:51Z</dcterms:created>
  <dc:creator>Owner</dc:creator>
  <dc:description/>
  <dc:language>en-US</dc:language>
  <cp:lastModifiedBy>Owner</cp:lastModifiedBy>
  <dcterms:modified xsi:type="dcterms:W3CDTF">2007-12-12T16:54:03Z</dcterms:modified>
  <cp:revision>2</cp:revision>
  <dc:subject/>
  <dc:title>Animal Cell</dc:title>
</cp:coreProperties>
</file>