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43EE-8E77-4C65-8702-E2FFCDD0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947-1FC9-40F1-BC4E-F7C0AFA6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623-AB4A-488D-B962-E3F86E86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41F0-1BF1-478C-B60F-7DEEA83B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4F6-289B-4A87-A144-8F6DCC05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3514-EF62-4A05-9BA3-2843AEDE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8047-66CF-47EB-88C1-16DA0B91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0BF-5CA4-4275-B390-E911A3C2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C6F-1DC9-4B5F-9029-696B2F27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0A9D-5409-4B13-9971-5C17A904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5C8-EB17-469C-9CB0-E256FB97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0A0C-1645-43F2-820D-C30218F4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F6CB-72AB-4F12-A9A5-2D4915D28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248520" cy="3676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8086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a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86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647960" cy="4190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5867280"/>
            <a:ext cx="800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) a diatom an autrophic protist, (B) a herbivorous oligotrich ciliate, (C) a herbivorous tintinnid ciliate, (D) a dinoflagellate, and (E) a radiolaria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6:42:51Z</dcterms:created>
  <dc:creator>Owner</dc:creator>
  <dc:description/>
  <dc:language>en-US</dc:language>
  <cp:lastModifiedBy>Owner</cp:lastModifiedBy>
  <dcterms:modified xsi:type="dcterms:W3CDTF">2007-12-12T16:54:03Z</dcterms:modified>
  <cp:revision>2</cp:revision>
  <dc:subject/>
  <dc:title>Animal Cell</dc:title>
</cp:coreProperties>
</file>