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189-13E7-41FA-AD6D-8C04C70B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79B-503B-4D15-AF83-417B8E15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5B3-0E88-4D87-9EE6-14FFA987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EF6-BAB0-4DAD-8D7F-0F1A49E0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C4F-3EFC-4EBC-AA9B-50A7BA6F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114-1B6F-4C7F-89F4-18810F4A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2CC-3416-4104-B2D1-237CC3C0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0F6-D101-49B7-8B71-CDBCCC9E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15F-74EE-4C29-8CB5-51AF35FC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601-9868-4242-85D7-963012FF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CC6-DD44-4B29-AFB1-BACEB46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3BA-823C-45CC-81C2-06A30F40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735C-F0D4-4A9B-9423-7BC02920F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24852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086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86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586728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 a diatom an autrophic protist, (B) a herbivorous oligotrich ciliate, (C) a herbivorous tintinnid ciliate, (D) a dinoflagellate, and (E) a radiolari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6:42:51Z</dcterms:created>
  <dc:creator>Owner</dc:creator>
  <dc:description/>
  <dc:language>en-US</dc:language>
  <cp:lastModifiedBy>Owner</cp:lastModifiedBy>
  <dcterms:modified xsi:type="dcterms:W3CDTF">2007-12-12T16:54:03Z</dcterms:modified>
  <cp:revision>2</cp:revision>
  <dc:subject/>
  <dc:title>Animal Cell</dc:title>
</cp:coreProperties>
</file>