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32B-51F8-41C5-8E79-4A4071F2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5E8-F125-4870-BE3B-F28DD4BB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D33-B543-4E06-B590-EED72F3C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739-448F-43CF-ACAE-75F4103D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BC7-49DF-4553-B88A-1D7DCDAA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45A-8431-4CC2-99DB-B6428282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FAB-741D-4990-9FCE-623F1B31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D47-C44F-4C9A-9951-77A603C8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C13-374D-452A-8E1E-CBF579EF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026-950D-404F-9D72-11C49669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08D-7D6F-4425-B049-09D31373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B09-321C-4A41-A3F9-B32CAA27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8633-1077-4E58-8946-94A360B01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24852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08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86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86728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 a diatom an autrophic protist, (B) a herbivorous oligotrich ciliate, (C) a herbivorous tintinnid ciliate, (D) a dinoflagellate, and (E) a radiolari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42:51Z</dcterms:created>
  <dc:creator>Owner</dc:creator>
  <dc:description/>
  <dc:language>en-US</dc:language>
  <cp:lastModifiedBy>Owner</cp:lastModifiedBy>
  <dcterms:modified xsi:type="dcterms:W3CDTF">2007-12-12T16:54:03Z</dcterms:modified>
  <cp:revision>2</cp:revision>
  <dc:subject/>
  <dc:title>Animal Cell</dc:title>
</cp:coreProperties>
</file>