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CF2-B37D-414B-8877-E1E1702B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972-E753-4723-9DFF-2B3DD6AE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599-CEDF-406B-B4CE-F5B2A75D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758-9538-431E-8F51-5F572C6E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C12-3726-4BB9-A107-7AD916C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145-D449-4133-A0C9-A20F6ED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52D-2C88-443E-B5A7-F5BECC9C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D39-69E7-4A5D-95E9-F5F5DCB4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AD0-F66A-4F14-B7D8-FFA55743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1BD-36BA-464B-A628-FD3EBF8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AD1-B784-4BE2-B083-982017A7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FF5-8292-4EDA-83F1-A6DF88F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F0F-01C0-473C-BF6F-581489963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tinamericanstudies.org/olmec-colossal-heads-1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ame means “rubber peop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0666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The Olmec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58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2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Locat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ttled along the coast of the Gulf of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Modern-day countries include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Economy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luenced area through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lmec jade carvings found throughout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Relig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lythe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erformed ritual sacri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layed pok-a-tok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uilt temple an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nt on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Achievements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tructed </a:t>
            </a:r>
            <a:r>
              <a:rPr b="0" lang="en-US" sz="3200" spc="-1" strike="noStrike" u="sng">
                <a:solidFill>
                  <a:srgbClr val="6666ff"/>
                </a:solidFill>
                <a:uFillTx/>
                <a:latin typeface="Arial Rounded MT Bold"/>
                <a:hlinkClick r:id="rId2"/>
              </a:rPr>
              <a:t>“Colossal 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veloped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43:31Z</dcterms:created>
  <dc:creator>ed craig</dc:creator>
  <dc:description/>
  <dc:language>en-US</dc:language>
  <cp:lastModifiedBy>ed craig</cp:lastModifiedBy>
  <dcterms:modified xsi:type="dcterms:W3CDTF">2007-12-13T17:44:15Z</dcterms:modified>
  <cp:revision>1</cp:revision>
  <dc:subject/>
  <dc:title>Slide 1</dc:title>
</cp:coreProperties>
</file>