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F03-4E1A-4900-A3BB-5469E89F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2DF-3E50-42C7-BAE4-40BEB11B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28C-C8F5-45D9-8F1E-49FAD22F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0E5-69CE-4B31-BD63-C0202EE0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D2AD-5FAC-440E-A3CD-4B140A7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5A0-B636-4A15-9117-91D480B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190-8CBA-48A4-BB5D-BAE78CD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E01-9E72-4C91-B640-38CACB11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E86-9FCF-4918-AF91-49030FA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1E3-4DDB-41FC-9385-6220A34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10C-4A6E-458B-91C8-778497B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688-8555-41A6-89DD-2CDF4A0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BCF-C021-4AFE-B8A0-6BA39B84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tinamericanstudies.org/olmec-colossal-heads-1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ame means “rubber peop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0666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The Olmec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58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Locat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ttled along the coast of the Gulf of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Modern-day countries include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Economy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luenced area through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lmec jade carvings found throughout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Relig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lythe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rformed ritual sacri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layed pok-a-to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uilt temple an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nt on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Achievements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tructed </a:t>
            </a:r>
            <a:r>
              <a:rPr b="0" lang="en-US" sz="3200" spc="-1" strike="noStrike" u="sng">
                <a:solidFill>
                  <a:srgbClr val="6666ff"/>
                </a:solidFill>
                <a:uFillTx/>
                <a:latin typeface="Arial Rounded MT Bold"/>
                <a:hlinkClick r:id="rId2"/>
              </a:rPr>
              <a:t>“Colossal 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veloped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43:31Z</dcterms:created>
  <dc:creator>ed craig</dc:creator>
  <dc:description/>
  <dc:language>en-US</dc:language>
  <cp:lastModifiedBy>ed craig</cp:lastModifiedBy>
  <dcterms:modified xsi:type="dcterms:W3CDTF">2007-12-13T17:44:15Z</dcterms:modified>
  <cp:revision>1</cp:revision>
  <dc:subject/>
  <dc:title>Slide 1</dc:title>
</cp:coreProperties>
</file>