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9D88-8407-4802-9A9F-14FA8B1B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9EB9-75F4-45AB-A2C6-0BCF615C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B75-19CD-49CD-9A20-1EDB2703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2D80-E907-4377-8908-248ADBB1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BDD-5314-4B1E-B152-B0E3DB3D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BB2-2283-4D84-8635-FFC719F5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098-9C1E-4EF2-BD86-B4FF1A24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EA3-0FB3-472E-9621-A7F4578A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C20-91D1-4C37-9F50-CB89AE72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F41-43AE-4FB4-82A3-C2569DC5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D11D-8387-4970-8C94-CDE277F1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1A4D-1633-4F7A-9002-BFB0F3D6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0BF4-14FB-4B55-A552-B089B9335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atinamericanstudies.org/olmec-colossal-heads-1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Name means “rubber peop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1066680"/>
            <a:ext cx="4800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Rounded MT Bold"/>
              </a:rPr>
              <a:t>The Olmecs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45820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823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 Rounded MT Bold"/>
              </a:rPr>
              <a:t>Location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ttled along the coast of the Gulf of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 Rounded MT Bold"/>
              </a:rPr>
              <a:t>Modern-day countries include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 Rounded MT Bold"/>
              </a:rPr>
              <a:t>Economy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nfluenced area through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lmec jade carvings found throughout Central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 Rounded MT Bold"/>
              </a:rPr>
              <a:t>Religion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olythe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erformed ritual sacrif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layed pok-a-tok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Built temple and pyram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nt on pilgr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 Rounded MT Bold"/>
              </a:rPr>
              <a:t>Achievements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nstructed </a:t>
            </a:r>
            <a:r>
              <a:rPr b="0" lang="en-US" sz="3200" spc="-1" strike="noStrike" u="sng">
                <a:solidFill>
                  <a:srgbClr val="6666ff"/>
                </a:solidFill>
                <a:uFillTx/>
                <a:latin typeface="Arial Rounded MT Bold"/>
                <a:hlinkClick r:id="rId2"/>
              </a:rPr>
              <a:t>“Colossal Hea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eveloped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43:31Z</dcterms:created>
  <dc:creator>ed craig</dc:creator>
  <dc:description/>
  <dc:language>en-US</dc:language>
  <cp:lastModifiedBy>ed craig</cp:lastModifiedBy>
  <dcterms:modified xsi:type="dcterms:W3CDTF">2007-12-13T17:44:15Z</dcterms:modified>
  <cp:revision>1</cp:revision>
  <dc:subject/>
  <dc:title>Slide 1</dc:title>
</cp:coreProperties>
</file>