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D14-963C-4656-97B3-885D4DD3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E30-FCFC-45B2-A49E-C470083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07B-BF00-41D4-993B-302C21E0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D15-441A-4548-90D2-9E64E27A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77D-6749-4F72-8DD2-9B9100BA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EF9-ADCA-4551-9E40-347A9F45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D04-D06C-457F-B06E-540307D7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729-EBDF-4CEC-A37E-0F2116C5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FE7-C0FC-4D60-966D-91FFCAAD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FFA-57B3-4183-8AB3-1768EEA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996-D1F4-4223-922D-2AB83528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2FA-CAAB-4DDC-ACF3-67744DD7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BD4B-0D2E-45C4-8657-C225756A7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atinamericanstudies.org/olmec-colossal-heads-1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ame means “rubber peop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1066680"/>
            <a:ext cx="4800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The Olmecs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4582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23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Location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ttled along the coast of the Gulf of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Modern-day countries include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Economy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luenced area through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lmec jade carvings found throughout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Religion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lythe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erformed ritual sacri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layed pok-a-tok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uilt temple and pyra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nt on pilgr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Achievements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nstructed </a:t>
            </a:r>
            <a:r>
              <a:rPr b="0" lang="en-US" sz="3200" spc="-1" strike="noStrike" u="sng">
                <a:solidFill>
                  <a:srgbClr val="6666ff"/>
                </a:solidFill>
                <a:uFillTx/>
                <a:latin typeface="Arial Rounded MT Bold"/>
                <a:hlinkClick r:id="rId2"/>
              </a:rPr>
              <a:t>“Colossal Hea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veloped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43:31Z</dcterms:created>
  <dc:creator>ed craig</dc:creator>
  <dc:description/>
  <dc:language>en-US</dc:language>
  <cp:lastModifiedBy>ed craig</cp:lastModifiedBy>
  <dcterms:modified xsi:type="dcterms:W3CDTF">2007-12-13T17:44:15Z</dcterms:modified>
  <cp:revision>1</cp:revision>
  <dc:subject/>
  <dc:title>Slide 1</dc:title>
</cp:coreProperties>
</file>