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6BF-CC84-439A-8BF3-CE69ED37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4EB-7116-431A-84A3-6DE041CE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D5F-E099-4BC1-8424-191AE970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ACC-2A32-4D47-900E-71003B06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B5FE-CA7F-47DC-856E-83E4DB87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B452-C405-47BB-B8A0-C4ECC709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11B5-5459-46B8-A158-CCE8FC0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0098-AFB5-490F-AD65-9214EBE1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5C2F-A6D1-433C-8F85-A461F39E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7A5-F9C9-49FA-B46E-8A5A632C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2BC-C57B-4E4A-8F3C-ED2771F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231-473B-4106-8C0A-822F5B4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4E8D-316D-45DB-94A8-1D950D4B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98B8-39FB-4B8F-B5FB-50BFD7D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113D-473A-4254-873F-4C75C56D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E70-DFC2-412A-8545-6F536965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4593-BE33-43B6-96E8-8B93C875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13E-9A6B-46C7-9199-D36286C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611-84F5-465C-98D0-D750F39D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C2C-EFA3-44E6-B854-63D2E57A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641-7E7E-4761-AC09-6ECCB57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AB9-8790-4AC9-BBE6-BC5EBF8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1CA-46BF-43B8-869C-DF8644C2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E76-6124-4078-A748-FA5628A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6E3E-4C1E-4830-8C7F-F71171E650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BE9B-1530-4572-874A-91B1E61F95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istoricaldocuments.com/13thAmendment.htm" TargetMode="External"/><Relationship Id="rId2" Type="http://schemas.openxmlformats.org/officeDocument/2006/relationships/hyperlink" Target="http://www.historicaldocuments.com/13thAmendment.htm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acial Segregation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and the </a:t>
            </a:r>
            <a:br>
              <a:rPr sz="3600"/>
            </a:b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Rise of the Jim Crow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d10de"/>
                </a:solidFill>
                <a:latin typeface="Arial"/>
              </a:rPr>
              <a:t>Law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 USII.3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4197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er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y would Northerners have issues with the Black Codes and Jim Crow Law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286000" cy="1876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57600" y="4025880"/>
            <a:ext cx="2286000" cy="189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81680" y="3886200"/>
            <a:ext cx="187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</a:t>
            </a: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Jim</a:t>
            </a: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 C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igures/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Jim C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E.B. Du Bo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er T. Washing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AC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The Rise and Fall of Jim Crow"/>
          <p:cNvPicPr/>
          <p:nvPr/>
        </p:nvPicPr>
        <p:blipFill>
          <a:blip r:embed="rId1"/>
          <a:stretch/>
        </p:blipFill>
        <p:spPr>
          <a:xfrm>
            <a:off x="155520" y="46080"/>
            <a:ext cx="2257560" cy="695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Media Feature - Watch the Video"/>
          <p:cNvPicPr/>
          <p:nvPr/>
        </p:nvPicPr>
        <p:blipFill>
          <a:blip r:embed="rId2"/>
          <a:stretch/>
        </p:blipFill>
        <p:spPr>
          <a:xfrm>
            <a:off x="5943600" y="3746520"/>
            <a:ext cx="25146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How Did Washington and Du Bois Differ in Response to the Laws?</a:t>
            </a: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.E.B. Du Bo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accepted social segreg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Bois believe equality among the races could be achieved throu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cational educ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Tuskegee Vocational School (18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er T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believed in total social, political, and civil rights for all African Americ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did not accept segregation and he wanted an end to discrimin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started the NAACP (National Association for the Advancement of Colored Peopl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86040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543800" y="5410080"/>
            <a:ext cx="861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Jim Crow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u Klux K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Then and Now: After the Civil War, the Democratic Party in the South was the party of white supremacy. Now, African Americans form the party's most loyal base of support."/>
          <p:cNvPicPr/>
          <p:nvPr/>
        </p:nvPicPr>
        <p:blipFill>
          <a:blip r:embed="rId1"/>
          <a:stretch/>
        </p:blipFill>
        <p:spPr>
          <a:xfrm>
            <a:off x="5029200" y="2971800"/>
            <a:ext cx="3352680" cy="258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2280" y="4191120"/>
            <a:ext cx="4438800" cy="109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10de"/>
                </a:solidFill>
                <a:latin typeface="Arial"/>
              </a:rPr>
              <a:t>What other groups went through racial segregation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 your group discuss what other groups of people besides for African Americans that probably went through racial segreg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Other SOLs in this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and interpret primary and secondary source documents to increase understanding of events and life in United States history. (USII.1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nnections between past and present. (USII.1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events in United States history. (USII.1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 ideas and events from different historical perspectives. (USII.1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Homework Assignm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write a 1 ½ page paper as if you were a person living in the early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segregated south.  Give specific examples in your paper of racial segregation.  Make your reader feel the emotions and burdens of the troubled tim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Class Proj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will make a slide show presentation on rac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reg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Jim Crow Laws.  You may chose to resea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U.S. states t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support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or group that supported or opposed th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SOL USII.3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 will demonstrate knowledge of how life changed after the Civil War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describing racial segregation, the rise of “Jim Crow,” and other constraints faced by African Americans in the post-Reconstruction Sou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lide show will examine racial segregation and the Rise of Jim Crow Laws in the late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rly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. We will view key figures and groups that participated and impacted this era of United States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fill out your handout as the class exams this time period of racial segregation.  Then see the last slide for your homework assig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nited States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Amendmen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ment of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historicaldocuments.com/13thAmendment.htm</a:t>
            </a:r>
            <a:r>
              <a:rPr b="0" lang="en-US" sz="1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733920"/>
            <a:ext cx="495324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. Constitution Adopted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70866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th  Amendmen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efines American Citize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hibited the Abridging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 of Citiz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pplied the Du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 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Guaranteed “equal prote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aws” to all citize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0de"/>
                </a:solidFill>
                <a:latin typeface="Arial"/>
              </a:rPr>
              <a:t>After the Civil War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U.S. Constitution Adopted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mendment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U.S. Citizens the right to vote and voters c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 discriminated based on race, color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vious condition of servitud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ass Discu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Issues did African Americans have to face after the Civil W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is Racial Segreg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t is the separation of a certain group of people, based on their race, from another group in dail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143000" y="61722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en.wikipedia.org/wiki/Racial_segre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acial Segreg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Codes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s passed these laws to take away the Civil Rights of African Americ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red in former Confederate States in the 1860s and the laws went on a state by state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-312120">
              <a:lnSpc>
                <a:spcPct val="80000"/>
              </a:lnSpc>
              <a:spcBef>
                <a:spcPts val="601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lack Co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eracy Tests to vo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censes required for work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riage, weapons, property ownership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 Vagrancy, required to work, and the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Codes regulated the type of work, and the hours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lab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4" marL="1811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9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10de"/>
                </a:solidFill>
                <a:latin typeface="Arial"/>
              </a:rPr>
              <a:t>Rise of Jim Crow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m Crow laws (1877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but Equal” Rul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facilities: schools, railroad carts, bathrooms, and later water fountain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Americans were prevented from living in “white” sections of towns, and they were limited to mostly laborious jo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3:55:00Z</dcterms:created>
  <dc:creator>sarah williams</dc:creator>
  <dc:description/>
  <dc:language>en-US</dc:language>
  <cp:lastModifiedBy>sarah williams</cp:lastModifiedBy>
  <dcterms:modified xsi:type="dcterms:W3CDTF">2007-12-13T01:04:02Z</dcterms:modified>
  <cp:revision>4</cp:revision>
  <dc:subject/>
  <dc:title>Racial Segregation and the Rise of the Jim Crow Laws</dc:title>
</cp:coreProperties>
</file>