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03C-ACC5-4EB1-BE5C-D5733F55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164-EA05-4ACA-9C69-B063E15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A78-4DD2-44BF-9C05-1208B403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E05-B44E-4600-9E0C-E4C2B4BE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0C78-1243-47BF-833B-9E63948E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2482-AE1F-41EC-85B8-C3260E9A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27D9-AD02-475E-913C-D51CAE75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9FE6-A2C2-46F4-B0B9-DA682815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8124-54B9-4A01-B19F-557FFB79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C64-62CC-43F1-88AF-89C7852E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EE28-64AD-415B-AB04-D1CB63B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CF6-EA48-457F-8C25-3167D49F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A93B-0990-4A36-9CB1-3AE9C60E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ED23-157E-4B1E-BC9E-4D49225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A2E-E6C9-4114-A3DA-9AD60A2C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7446-1996-469B-BE84-48C1649B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EEE8-DA02-42B4-A89D-E75ECCF8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5B3-AAAA-431A-88B2-C80367C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01B-BE1F-49FE-8253-F9588754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B16-9B59-419F-88EB-8AAB996D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5D2-1994-4ACC-92D9-A5EA5004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2BF-8146-4001-B846-3A05E81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8DB-873B-4343-B555-5954C35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8E6-5536-4651-A47C-F9DE9DF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6430-058C-489F-8545-EC0A1B73F1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9EE-18F2-46C6-9C4D-F51679D772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icaldocuments.com/13thAmendment.htm" TargetMode="External"/><Relationship Id="rId2" Type="http://schemas.openxmlformats.org/officeDocument/2006/relationships/hyperlink" Target="http://www.historicaldocuments.com/13thAmendment.htm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acial Segregation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and the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ise of the Jim Crow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Law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 USII.3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er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y would Northerners have issues with the Black Codes and Jim Crow Law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0" cy="1876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025880"/>
            <a:ext cx="2286000" cy="189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7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</a:t>
            </a: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Jim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C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igures/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Jim C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E.B. Du B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er T.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The Rise and Fall of Jim Crow"/>
          <p:cNvPicPr/>
          <p:nvPr/>
        </p:nvPicPr>
        <p:blipFill>
          <a:blip r:embed="rId1"/>
          <a:stretch/>
        </p:blipFill>
        <p:spPr>
          <a:xfrm>
            <a:off x="155520" y="46080"/>
            <a:ext cx="225756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Media Feature - Watch the Video"/>
          <p:cNvPicPr/>
          <p:nvPr/>
        </p:nvPicPr>
        <p:blipFill>
          <a:blip r:embed="rId2"/>
          <a:stretch/>
        </p:blipFill>
        <p:spPr>
          <a:xfrm>
            <a:off x="5943600" y="3746520"/>
            <a:ext cx="2514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How Did Washington and Du Bois Differ in Response to the Laws?</a:t>
            </a: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.E.B. Du Bo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accepted social segr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Bois believe equality among the races could be achieved throu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onal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Tuskegee Vocational School (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er T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believed in total social, political, and civil rights for all African Amer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id not accept segregation and he wanted an end to discrimi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NAACP (National Association for the Advancement of Colored Peopl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861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Jim Crow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u Klux K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Then and Now: After the Civil War, the Democratic Party in the South was the party of white supremacy. Now, African Americans form the party's most loyal base of support.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What other groups went through racial segregati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 your group discuss what other groups of people besides for African Americans that probably went through racial segre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Other SOLs in this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and interpret primary and secondary source documents to increase understanding of events and life in United States history. (USII.1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between past and present. (USII.1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events in United States history. (USII.1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ideas and events from different historical perspectives. (USII.1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Homework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write a 1 ½ page paper as if you were a person living in the ear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segregated south.  Give specific examples in your paper of racial segregation.  Make your reader feel the emotions and burdens of the troubled ti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Class 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make a slide show presentation on rac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reg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Jim Crow Laws.  You may chose to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U.S. states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upport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or group that supported or oppos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SOL USII.3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monstrate knowledge of how life changed after the Civil War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describing racial segregation, the rise of “Jim Crow,” and other constraints faced by African Americans in the post-Reconstruction So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lide show will examine racial segregation and the Rise of Jim Crow Laws in the lat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. We will view key figures and groups that participated and impacted this era of United States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ill out your handout as the class exams this time period of racial segregation.  Then see the last slide for your homework assig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mendmen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ment of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historicaldocuments.com/13thAmendment.htm</a:t>
            </a:r>
            <a:r>
              <a:rPr b="0" lang="en-US" sz="1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733920"/>
            <a:ext cx="4953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. Constitution Adopte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7086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th  Amend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fines American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hibited the Abridg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of Citiz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pplied the Du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uaranteed “equal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aws” to all citize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.S.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mendment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U.S. Citizens the right to vote and voters 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discriminated based on race, color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vious condition of servitud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sues did African Americans have to face after the Civil W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Racial Segreg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the separation of a certain group of people, based on their race, from another group in dail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14300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en.wikipedia.org/wiki/Racial_segre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Codes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passed these laws to take away the Civil Rights of African Amer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d in former Confederate States in the 1860s and the laws went on a state by state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lack Co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cy Tests to v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enses required for work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riage, weapons, property ownership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Vagrancy, required to work, and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Codes regulated the type of work, and the hours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lab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m Crow laws (187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Rul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acilities: schools, railroad carts, bathrooms, and later water fountain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 were prevented from living in “white” sections of towns, and they were limited to mostly laborious jo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3:55:00Z</dcterms:created>
  <dc:creator>sarah williams</dc:creator>
  <dc:description/>
  <dc:language>en-US</dc:language>
  <cp:lastModifiedBy>sarah williams</cp:lastModifiedBy>
  <dcterms:modified xsi:type="dcterms:W3CDTF">2007-12-13T01:04:02Z</dcterms:modified>
  <cp:revision>4</cp:revision>
  <dc:subject/>
  <dc:title>Racial Segregation and the Rise of the Jim Crow Laws</dc:title>
</cp:coreProperties>
</file>