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A70-5162-4E87-9E6D-6A3F0917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A54-5BBD-4ED4-8572-C1C236C8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F87-ACB7-46FC-AC04-274885D5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D0C-1748-4F77-9986-AAF3AF21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8E60-964A-4E8B-B136-5160E32F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1065-0C48-4C95-831F-F71544FC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FFEF-E677-4EBE-B216-2E352BE8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9F47-6B18-4805-8101-15203D94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F5A8-1A35-4155-9A3A-85CDB929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068C-132F-4D3B-A0A0-8F465E34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6A37-71FD-4C1C-9D7E-2A26D96B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624-3CF0-4990-97FB-7392A5E5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F77F-3074-4AF9-A2E9-DB160CB9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1152-2CFB-4EB5-BBD2-FF5E8E69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E98F-EB30-456E-B7BC-6EBA1487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B389-EB7A-45BE-8BD3-EEFFDB0F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B865-AEDF-40E8-BF93-F9E6427B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D0D-ED0C-44D2-ABC5-0A4DF30B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74C-6833-4E85-BBB2-C0A74253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37F-685E-4C15-904E-D0DABD32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268-1C3B-4E68-86D7-60F57161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0FC-7CAB-4458-A27B-F5336A2F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02A-E3EC-4C94-9747-980AE8D7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523-9CA3-456C-87D1-679D804E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A7B1-EBB1-4007-97D3-8D39025ADA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1973-073F-4CC1-806C-525C6A1A4B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istoricaldocuments.com/13thAmendment.htm" TargetMode="External"/><Relationship Id="rId2" Type="http://schemas.openxmlformats.org/officeDocument/2006/relationships/hyperlink" Target="http://www.historicaldocuments.com/13thAmendment.htm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Racial Segregation </a:t>
            </a:r>
            <a:br>
              <a:rPr sz="36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and the </a:t>
            </a:r>
            <a:br>
              <a:rPr sz="36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Rise of the Jim Crow</a:t>
            </a: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Law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L USII.3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44197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er 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y would Northerners have issues with the Black Codes and Jim Crow Law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286000" cy="1876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57600" y="4025880"/>
            <a:ext cx="2286000" cy="1897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781680" y="3886200"/>
            <a:ext cx="187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</a:t>
            </a: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Jim</a:t>
            </a: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 Cro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igures/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Jim Cr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E.B. Du Bo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er T. Washing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AC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The Rise and Fall of Jim Crow"/>
          <p:cNvPicPr/>
          <p:nvPr/>
        </p:nvPicPr>
        <p:blipFill>
          <a:blip r:embed="rId1"/>
          <a:stretch/>
        </p:blipFill>
        <p:spPr>
          <a:xfrm>
            <a:off x="155520" y="46080"/>
            <a:ext cx="2257560" cy="695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Media Feature - Watch the Video"/>
          <p:cNvPicPr/>
          <p:nvPr/>
        </p:nvPicPr>
        <p:blipFill>
          <a:blip r:embed="rId2"/>
          <a:stretch/>
        </p:blipFill>
        <p:spPr>
          <a:xfrm>
            <a:off x="5943600" y="3746520"/>
            <a:ext cx="25146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How Did Washington and Du Bois Differ in Response to the Laws?</a:t>
            </a: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.E.B. Du Bo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accepted social segre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 Bois believe equality among the races could be achieved throug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tional educ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tarted the Tuskegee Vocational School (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er T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ing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believed in total social, political, and civil rights for all African Americ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did not accept segregation and he wanted an end to discrimin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tarted the NAACP (National Association for the Advancement of Colored Peopl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543800" y="5410080"/>
            <a:ext cx="861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 Jim Crow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u Klux K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tic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Then and Now: After the Civil War, the Democratic Party in the South was the party of white supremacy. Now, African Americans form the party's most loyal base of support."/>
          <p:cNvPicPr/>
          <p:nvPr/>
        </p:nvPicPr>
        <p:blipFill>
          <a:blip r:embed="rId1"/>
          <a:stretch/>
        </p:blipFill>
        <p:spPr>
          <a:xfrm>
            <a:off x="5029200" y="2971800"/>
            <a:ext cx="3352680" cy="258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52280" y="4191120"/>
            <a:ext cx="4438800" cy="109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What other groups went through racial segregation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 your group discuss what other groups of people besides for African Americans that probably went through racial segreg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Other SOLs in this 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and interpret primary and secondary source documents to increase understanding of events and life in United States history. (USII.1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nnections between past and present. (USII.1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events in United States history. (USII.1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ideas and events from different historical perspectives. (USII.1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Homework 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write a 1 ½ page paper as if you were a person living in the early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segregated south.  Give specific examples in your paper of racial segregation.  Make your reader feel the emotions and burdens of the troubled tim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Class Proj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make a slide show presentation on raci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greg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Jim Crow Laws.  You may chose to researc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U.S. states t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supported th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or group that supported or opposed th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SOL USII.3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 will demonstrate knowledge of how life changed after the Civil War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describing racial segregation, the rise of “Jim Crow,” and other constraints faced by African Americans in the post-Reconstruction Sou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lide show will examine racial segregation and the Rise of Jim Crow Laws in the lat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rly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ies. We will view key figures and groups that participated and impacted this era of United States his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fill out your handout as the class exams this time period of racial segregation.  Then see the last slide for your homework assig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4800"/>
            </a:b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nited States Constitution Adopted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Amendment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shment of Slav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historicaldocuments.com/13thAmendment.htm</a:t>
            </a:r>
            <a:r>
              <a:rPr b="0" lang="en-US" sz="1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733920"/>
            <a:ext cx="49532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54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.S. Constitution Adopte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828800"/>
            <a:ext cx="70866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th  Amendmen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efines American Citize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ohibited the Abridging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of Citiz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pplied the Du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se (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Guaranteed “equal prot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aws” to all citize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.S. Constitution Adopted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mendment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U.S. Citizens the right to vote and voters c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e discriminated based on race, color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evious condition of servitude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ass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at Issues did African Americans have to face after the Civil W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acial Segreg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is Racial Segreg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is the separation of a certain group of people, based on their race, from another group in dail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143000" y="61722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en.wikipedia.org/wiki/Racial_segre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Racial Segreg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ack Codes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S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s passed these laws to take away the Civil Rights of African Americ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-312120">
              <a:lnSpc>
                <a:spcPct val="8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d in former Confederate States in the 1860s and the laws went on a state by state ba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-312120">
              <a:lnSpc>
                <a:spcPct val="8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lack Cod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teracy Tests to vo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enses required for work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riage, weapons, property ownership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Vagrancy, required to work, and the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Codes regulated the type of work, and the hours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labo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m Crow laws (1877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but Equal” Rul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facilities: schools, railroad carts, bathrooms, and later water fountain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 Americans were prevented from living in “white” sections of towns, and they were limited to mostly laborious jo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3:55:00Z</dcterms:created>
  <dc:creator>sarah williams</dc:creator>
  <dc:description/>
  <dc:language>en-US</dc:language>
  <cp:lastModifiedBy>sarah williams</cp:lastModifiedBy>
  <dcterms:modified xsi:type="dcterms:W3CDTF">2007-12-13T01:04:02Z</dcterms:modified>
  <cp:revision>4</cp:revision>
  <dc:subject/>
  <dc:title>Racial Segregation and the Rise of the Jim Crow Laws</dc:title>
</cp:coreProperties>
</file>