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10A-81C6-4141-B625-4132106A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D8E-FCB1-4EB5-AB3F-F10FDB63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8AF-EDFD-4F04-A8C0-03BDC605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371-2052-431C-9B18-4BB5B989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A68-2043-4032-836A-20C05641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BE8C-D37F-413F-BE71-E80F5030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B984-7745-43C4-95C3-67B89010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30F-A223-4C88-9EEE-77A0E85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2EBD-71BA-43DE-B27C-8C70A86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AC0-CE6C-4422-8C54-840A9D6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155A-AD27-4B01-AC93-CC86C86B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8C9-3920-4C31-BCAF-B2F4CC9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A391-8A7D-4915-BC25-CFC72CF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7E04-5E63-42D6-B7A1-C3F6BCB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37E2-93F9-4A77-93D6-74F54F0C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C6C5-09D3-4AFE-B29D-16E63CDC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B8CB-4C9F-486A-B6B5-2C8BF661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BE9-AFDA-4B40-A462-01BFD7EB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1A7-FF58-443A-8A29-191285A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CE0-0376-4F66-9D8A-628FC7DC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5FB-1F3C-47C0-9AD3-B534157A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7E1-FE7C-4F40-80E0-57539FD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18F-551B-4423-B7AE-E8D0691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EF1-37F7-434F-8B45-55A36ED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F5F-7F6E-48EF-8F86-C396229631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FBA-F205-464C-BDC4-3C87E42529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icaldocuments.com/13thAmendment.htm" TargetMode="External"/><Relationship Id="rId2" Type="http://schemas.openxmlformats.org/officeDocument/2006/relationships/hyperlink" Target="http://www.historicaldocuments.com/13thAmendment.htm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acial Segregation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and the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ise of the Jim Crow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Law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 USII.3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er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y would Northerners have issues with the Black Codes and Jim Crow Law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0" cy="1876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025880"/>
            <a:ext cx="2286000" cy="189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7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</a:t>
            </a: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Jim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C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igures/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Jim C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E.B. Du B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er T.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The Rise and Fall of Jim Crow"/>
          <p:cNvPicPr/>
          <p:nvPr/>
        </p:nvPicPr>
        <p:blipFill>
          <a:blip r:embed="rId1"/>
          <a:stretch/>
        </p:blipFill>
        <p:spPr>
          <a:xfrm>
            <a:off x="155520" y="46080"/>
            <a:ext cx="225756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Media Feature - Watch the Video"/>
          <p:cNvPicPr/>
          <p:nvPr/>
        </p:nvPicPr>
        <p:blipFill>
          <a:blip r:embed="rId2"/>
          <a:stretch/>
        </p:blipFill>
        <p:spPr>
          <a:xfrm>
            <a:off x="5943600" y="3746520"/>
            <a:ext cx="2514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How Did Washington and Du Bois Differ in Response to the Laws?</a:t>
            </a: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.E.B. Du Bo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accepted social segr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Bois believe equality among the races could be achieved throu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onal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Tuskegee Vocational School (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er T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believed in total social, political, and civil rights for all African Amer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id not accept segregation and he wanted an end to discrimi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NAACP (National Association for the Advancement of Colored Peopl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861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Jim Crow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u Klux K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Then and Now: After the Civil War, the Democratic Party in the South was the party of white supremacy. Now, African Americans form the party's most loyal base of support.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What other groups went through racial segregati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 your group discuss what other groups of people besides for African Americans that probably went through racial segre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Other SOLs in this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and interpret primary and secondary source documents to increase understanding of events and life in United States history. (USII.1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between past and present. (USII.1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events in United States history. (USII.1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ideas and events from different historical perspectives. (USII.1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Homework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write a 1 ½ page paper as if you were a person living in the ear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segregated south.  Give specific examples in your paper of racial segregation.  Make your reader feel the emotions and burdens of the troubled ti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Class 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make a slide show presentation on rac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reg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Jim Crow Laws.  You may chose to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U.S. states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upport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or group that supported or oppos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SOL USII.3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monstrate knowledge of how life changed after the Civil War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describing racial segregation, the rise of “Jim Crow,” and other constraints faced by African Americans in the post-Reconstruction So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lide show will examine racial segregation and the Rise of Jim Crow Laws in the lat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. We will view key figures and groups that participated and impacted this era of United States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ill out your handout as the class exams this time period of racial segregation.  Then see the last slide for your homework assig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mendmen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ment of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historicaldocuments.com/13thAmendment.htm</a:t>
            </a:r>
            <a:r>
              <a:rPr b="0" lang="en-US" sz="1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733920"/>
            <a:ext cx="4953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. Constitution Adopte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7086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th  Amend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fines American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hibited the Abridg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of Citiz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pplied the Du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uaranteed “equal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aws” to all citize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.S.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mendment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U.S. Citizens the right to vote and voters 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discriminated based on race, color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vious condition of servitud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sues did African Americans have to face after the Civil W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Racial Segreg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the separation of a certain group of people, based on their race, from another group in dail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14300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en.wikipedia.org/wiki/Racial_segre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Codes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passed these laws to take away the Civil Rights of African Amer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d in former Confederate States in the 1860s and the laws went on a state by state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lack Co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cy Tests to v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enses required for work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riage, weapons, property ownership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Vagrancy, required to work, and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Codes regulated the type of work, and the hours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lab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m Crow laws (187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Rul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acilities: schools, railroad carts, bathrooms, and later water fountain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 were prevented from living in “white” sections of towns, and they were limited to mostly laborious jo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3:55:00Z</dcterms:created>
  <dc:creator>sarah williams</dc:creator>
  <dc:description/>
  <dc:language>en-US</dc:language>
  <cp:lastModifiedBy>sarah williams</cp:lastModifiedBy>
  <dcterms:modified xsi:type="dcterms:W3CDTF">2007-12-13T01:04:02Z</dcterms:modified>
  <cp:revision>4</cp:revision>
  <dc:subject/>
  <dc:title>Racial Segregation and the Rise of the Jim Crow Laws</dc:title>
</cp:coreProperties>
</file>